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4BA5-4629-4C53-B415-056202787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ED2D-C0AC-4E38-B434-9F30161BD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67A7-1772-4662-A007-024AEFAC8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04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932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04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932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58CB-126B-4026-A80E-7B64DA0227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7FF5-6077-451F-8395-BC9EE93A02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56C2-A40B-4DCD-8052-3928A3F36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97DE-1F3E-4B04-AC77-C3685AF19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B35B-27C5-471F-9ED2-4D2B9B500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77709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8EBE-8236-4F09-AAE3-5CDC520C9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1E6D-6EEA-4309-BBFF-E623DB55B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F0BF-7820-4034-902C-BCE31778F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E1C6-68B3-4E11-BE45-CDEF254DA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2103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21036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94240" y="540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4B01D8-9312-4920-87B2-2308801DD91F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extBox 1"/>
          <p:cNvGrpSpPr/>
          <p:nvPr/>
        </p:nvGrpSpPr>
        <p:grpSpPr>
          <a:xfrm>
            <a:off x="1060560" y="755640"/>
            <a:ext cx="7022880" cy="5097960"/>
            <a:chOff x="1060560" y="755640"/>
            <a:chExt cx="7022880" cy="5097960"/>
          </a:xfrm>
        </p:grpSpPr>
        <p:pic>
          <p:nvPicPr>
            <p:cNvPr id="43" name="TextBox 1" descr=""/>
            <p:cNvPicPr/>
            <p:nvPr/>
          </p:nvPicPr>
          <p:blipFill>
            <a:blip r:embed="rId1"/>
            <a:stretch/>
          </p:blipFill>
          <p:spPr>
            <a:xfrm>
              <a:off x="1060560" y="755640"/>
              <a:ext cx="702288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066680" y="762120"/>
              <a:ext cx="7010640" cy="50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CONTRA COSTA REGIONAL MEDICAL CEN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NOON CONFERENCE SERI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0c0"/>
                  </a:solidFill>
                  <a:latin typeface="Arial"/>
                </a:rPr>
                <a:t>DISCLOSURE OF CONFLICT OF INTERES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Speaker has nothing to disclo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desiging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hat problem do you want to s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w would you frame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 have thirty second to look at this test. So off they go to the medical specia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ewer people come in looking for us to treat things. They go right to the medical specialist without us even kn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5" descr="mol.jpg"/>
          <p:cNvPicPr/>
          <p:nvPr/>
        </p:nvPicPr>
        <p:blipFill>
          <a:blip r:embed="rId1"/>
          <a:stretch/>
        </p:blipFill>
        <p:spPr>
          <a:xfrm>
            <a:off x="6675480" y="0"/>
            <a:ext cx="2468520" cy="3809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3" descr="connected health.jpg"/>
          <p:cNvPicPr/>
          <p:nvPr/>
        </p:nvPicPr>
        <p:blipFill>
          <a:blip r:embed="rId2"/>
          <a:stretch/>
        </p:blipFill>
        <p:spPr>
          <a:xfrm>
            <a:off x="826920" y="0"/>
            <a:ext cx="3135600" cy="4221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4" descr="hoff.jpg"/>
          <p:cNvPicPr/>
          <p:nvPr/>
        </p:nvPicPr>
        <p:blipFill>
          <a:blip r:embed="rId3"/>
          <a:stretch/>
        </p:blipFill>
        <p:spPr>
          <a:xfrm>
            <a:off x="3348000" y="114300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Primary care without Paper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oinette de B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e profess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e Health policy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smus University Rotterd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cmh-house"/>
          <p:cNvPicPr/>
          <p:nvPr/>
        </p:nvPicPr>
        <p:blipFill>
          <a:blip r:embed="rId1"/>
          <a:stretch/>
        </p:blipFill>
        <p:spPr>
          <a:xfrm>
            <a:off x="5508720" y="1413000"/>
            <a:ext cx="23810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irst yield of the reporting system was kind of disappointing, it had all kinds of minor process errors and all that.” GP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all about organizational issues. We don’t think it enhances patient safety because our care is already very safe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prescribing an anti-mycotic cream in a case of suspected eczema an incident or is it an example of ‘doctoring’, meaning searching for the right treatment through a process of trial and error?”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sk management suggests that [with IRP] things would never go wrong again. A GP could never accomplish that, it makes this risk management frustrating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How can safety be managed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60280"/>
            <a:ext cx="3808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technologies/ Networks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5120" y="2060280"/>
            <a:ext cx="38102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 set of actions and implici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oolbox"/>
          <p:cNvPicPr/>
          <p:nvPr/>
        </p:nvPicPr>
        <p:blipFill>
          <a:blip r:embed="rId1"/>
          <a:stretch/>
        </p:blipFill>
        <p:spPr>
          <a:xfrm>
            <a:off x="7667640" y="549360"/>
            <a:ext cx="790560" cy="571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879480" y="4818240"/>
            <a:ext cx="67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ptimal use of risk technologies depend upon implicit and unarticulated rout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A home visit on a Friday afterno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3213000"/>
            <a:ext cx="38084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missing a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: PCP should always check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: PCP should always call patient to decide upon a home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120" y="3213000"/>
            <a:ext cx="38102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: possible emer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: Explain patient when to contact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icit initiatives: Recall scatter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wachtkamer_365x243"/>
          <p:cNvPicPr/>
          <p:nvPr/>
        </p:nvPicPr>
        <p:blipFill>
          <a:blip r:embed="rId1"/>
          <a:stretch/>
        </p:blipFill>
        <p:spPr>
          <a:xfrm>
            <a:off x="2843280" y="1197000"/>
            <a:ext cx="2808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sclosure of leading assump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2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95320" y="1352520"/>
            <a:ext cx="7810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The value of an electronic record is neither straightforward nor easy”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914400" y="2406600"/>
            <a:ext cx="77709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designing primary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 health care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ceptionist can schedule overdue screening appointments without an order of the primary care physic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alternatives to face to face vis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tient can send an email to their doctor, instead of 1 to visits, patients are offered a group vis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reach chronic care man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 nurse or physician see which screening test that are overdue and can plan an appoin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inette de bont</dc:creator>
  <dc:description/>
  <dc:language>en-US</dc:language>
  <cp:lastModifiedBy>Antoinette</cp:lastModifiedBy>
  <dcterms:modified xsi:type="dcterms:W3CDTF">2010-12-16T18:06:45Z</dcterms:modified>
  <cp:revision>94</cp:revision>
  <dc:subject/>
  <dc:title>Dia 1</dc:title>
</cp:coreProperties>
</file>